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8754-CA34-4AC6-83D8-0C4BE837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FD4-AF7E-4DBC-94BC-E1048D52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5B9-0FCE-496F-ADF3-EE89255E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9A3-784F-4F6B-9E6B-84A7048A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484-3537-4A23-8378-E828621F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337-EA68-4DEB-B97A-DAE3BE2C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3C7-8A24-4968-ACE4-C05F11F8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EE9-6887-4D03-AF5E-5A14ADA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C51-8529-43D9-8EAD-3DB34A32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883-D9DE-4923-A316-9A311F11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3C4-0C2D-4F33-8D1F-051D4B5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909-213E-4F97-80BF-2094597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4A6-5129-44B6-8188-F2FE5AC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D98-6E31-4097-BE82-91D02B548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lanning ahea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ications pull from pioneer users in Cor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ial Bank</a:t>
            </a:r>
            <a:r>
              <a:rPr b="0" lang="en-US" sz="2000" spc="-1" strike="noStrike">
                <a:solidFill>
                  <a:srgbClr val="336699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udy these groups currently annotat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aluate the commonalities and differences among approach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 plug-in architec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user interface for generic data-annotation task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stom-tailored interfaces for particular biomedical 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able interoperability with existing ontology-management platfo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 ontology-annotation tool with 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cess ontologies for data annotation from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 data annotations in OB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reating </a:t>
            </a:r>
            <a:r>
              <a:rPr b="1" lang="en-US" sz="4400" spc="-1" strike="noStrike">
                <a:solidFill>
                  <a:srgbClr val="e3ebf1"/>
                </a:solidFill>
                <a:latin typeface="Gill Sans"/>
              </a:rPr>
              <a:t>associations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487440" y="2209680"/>
            <a:ext cx="254628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62" idx="2"/>
          </p:cNvCxnSpPr>
          <p:nvPr/>
        </p:nvCxnSpPr>
        <p:spPr>
          <a:xfrm flipV="1" rot="16200000">
            <a:off x="3114000" y="4485600"/>
            <a:ext cx="2912040" cy="3960"/>
          </a:xfrm>
          <a:prstGeom prst="bentConnector3">
            <a:avLst>
              <a:gd name="adj1" fmla="val 50000"/>
            </a:avLst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0" name=""/>
          <p:cNvCxnSpPr>
            <a:stCxn id="68" idx="0"/>
            <a:endCxn id="60" idx="3"/>
          </p:cNvCxnSpPr>
          <p:nvPr/>
        </p:nvCxnSpPr>
        <p:spPr>
          <a:xfrm flipV="1" rot="16200000">
            <a:off x="2380680" y="3752280"/>
            <a:ext cx="2705760" cy="16772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1" name=""/>
          <p:cNvCxnSpPr>
            <a:stCxn id="68" idx="0"/>
            <a:endCxn id="61" idx="3"/>
          </p:cNvCxnSpPr>
          <p:nvPr/>
        </p:nvCxnSpPr>
        <p:spPr>
          <a:xfrm flipV="1" rot="16200000">
            <a:off x="3066840" y="4438080"/>
            <a:ext cx="1296000" cy="17150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2" name=""/>
          <p:cNvCxnSpPr>
            <a:stCxn id="68" idx="0"/>
            <a:endCxn id="63" idx="1"/>
          </p:cNvCxnSpPr>
          <p:nvPr/>
        </p:nvCxnSpPr>
        <p:spPr>
          <a:xfrm flipH="1" flipV="1" rot="5400000">
            <a:off x="4171680" y="3638160"/>
            <a:ext cx="2705760" cy="19058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3" name=""/>
          <p:cNvCxnSpPr>
            <a:stCxn id="68" idx="0"/>
            <a:endCxn id="66" idx="1"/>
          </p:cNvCxnSpPr>
          <p:nvPr/>
        </p:nvCxnSpPr>
        <p:spPr>
          <a:xfrm flipH="1" flipV="1" rot="5400000">
            <a:off x="4933440" y="4285800"/>
            <a:ext cx="1296000" cy="201996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sp>
        <p:nvSpPr>
          <p:cNvPr id="74" name=""/>
          <p:cNvSpPr/>
          <p:nvPr/>
        </p:nvSpPr>
        <p:spPr>
          <a:xfrm>
            <a:off x="304920" y="1905120"/>
            <a:ext cx="8458200" cy="3809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5280" y="2666880"/>
            <a:ext cx="8714880" cy="187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finition of an associ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6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Our Annotation Tas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Annotation: describing an instance with a set of associated ontological ter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Genotype, environmental, assay, evidence, and </a:t>
            </a:r>
            <a:r>
              <a:rPr b="1" lang="en-GB" sz="2800" spc="-1" strike="noStrike">
                <a:solidFill>
                  <a:srgbClr val="ff8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For an association we need to capture the following data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name or tag for the inst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The evidence for the observ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"/>
              </a:rPr>
              <a:t>For example, the URL of an im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list of associated terms comprising the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Suzanna Lewis</cp:lastModifiedBy>
  <dcterms:modified xsi:type="dcterms:W3CDTF">2006-03-03T19:18:35Z</dcterms:modified>
  <cp:revision>457</cp:revision>
  <dc:subject/>
  <dc:title>NCBIO-Berkeley</dc:title>
</cp:coreProperties>
</file>